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C63-9DD8-4E69-B819-644A7128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B55-9689-4412-B623-311C96F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B97-C852-4CC4-8049-8D8E0446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563-5DA3-4326-83B0-1A96A22E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102-F7AC-4A81-93B0-B8016217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B6D-F860-42B5-9F52-5605051B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5FBD-2A62-41E0-9625-61055C4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636-1D37-493F-9160-F4AEC52E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DA4-C7E9-43BC-BD58-185D8A9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ABED-E509-4B15-A421-16F3404A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A6C2-0036-45BF-BFE7-15BBCBB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841-B95A-482D-86E8-364572B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BF0-033C-468A-AD8C-4E160CC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1EA-B630-4F56-A118-79C1863E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3D3-BF41-48F4-AB7E-0E1EE612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AD0A-9624-48DA-8A55-2FDC8444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B9A-2493-40DD-87C3-BC2B4859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A8E7-E8C7-4473-8FF4-D514E930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47CA-8F2B-4FFF-9583-7A91D50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F8A9-DC45-4FCF-AA64-74678EC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089A-8121-4776-B3B5-A9FF0E59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AB0B-EFA8-47EA-A809-66741C5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A9E-6B14-4894-8A8B-75252638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3AF5-3C8A-4B20-902B-5E5CBEA2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66EB-80ED-4C5F-80B4-F8A9FF9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A06B-2CB7-45B1-BE75-FDBB312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E0E7-9EDA-43AD-95BD-67163C8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41FC-65EE-4FE1-AB6A-14E1A75E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A0F0-39E1-4267-9F2A-FE6FFFA3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7AFF-C509-46EC-9558-F471FA81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6B83-412D-4C97-B873-81A8E16D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2B42-6267-4068-997D-BB18AE6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E95E-9DF4-4AED-912A-248D4CB0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963-0406-4E91-AFD5-B6A69AF9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D3AB-CBE1-4831-A9AE-950B1C9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640D-1239-423A-989C-484FF90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5C24-BF5A-456D-91C0-9EC61E2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0B87-03DA-4646-BC63-056B571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55F2-4D2E-485F-8235-5B65474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5878-8E45-46E1-BBDA-FC40235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62F1-0092-4A16-A1CF-BEB79D57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16B2-3DC2-406B-B288-1524A256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F034-8A1C-49E7-B9C7-76E928DA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9A2-6F45-4A30-A4D0-3E5946E5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255-B3E3-407A-9C86-B132013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8D3-641C-4C9E-A763-BA0D0F4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953-116D-44A9-92B6-5665CF7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10D-85AB-4164-918B-84DC029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22F-5361-446B-87E3-712D7B68D52E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E64-6B42-4E4E-AC50-9DB2539C957F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B30-9C9D-43D8-B552-4923206EB5DB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410-6E0B-4183-A39A-F1E647015284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imeri%201%20i%202.nb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1795320"/>
            <a:ext cx="662616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нијела Милутиновић 1011/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d83e2c"/>
                </a:solidFill>
                <a:uFillTx/>
                <a:latin typeface="Constantia"/>
                <a:hlinkClick r:id="rId1"/>
              </a:rPr>
              <a:t>Увод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2" descr=""/>
          <p:cNvPicPr/>
          <p:nvPr/>
        </p:nvPicPr>
        <p:blipFill>
          <a:blip r:embed="rId2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Constantia"/>
              </a:rPr>
              <a:t>Централ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нишемо операције са комплексним бројевим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одимо примере за сваку од тих операциј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једно са ученицима уочавамо законитости које важе за структуру комплексних бројев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Constantia"/>
              </a:rPr>
              <a:t>Операције са комплексним бројевим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рад на час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вежб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29:17Z</dcterms:created>
  <dc:creator>DacaMajaJoka</dc:creator>
  <dc:description/>
  <dc:language>en-US</dc:language>
  <cp:lastModifiedBy>DacaMajaJoka</cp:lastModifiedBy>
  <dcterms:modified xsi:type="dcterms:W3CDTF">2012-01-21T14:38:41Z</dcterms:modified>
  <cp:revision>15</cp:revision>
  <dc:subject/>
  <dc:title>Операције са комплексним бројевима</dc:title>
</cp:coreProperties>
</file>